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C49-479A-4FA0-9FDB-F49DF8F2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56B-1296-4566-8667-8BFF5839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629-1F12-4E0C-AB3B-E1A686D3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3FA-B3DD-4EE4-9E02-6907C94F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58BB-AF07-4E7F-8BB0-FB184738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C9BF-D679-4CAB-B466-A709A02B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883A-6240-48F7-98F7-86D1BCE0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DA63-5840-42A4-A305-40EAF08C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02DE-90A3-42CD-A64B-8B8B65C7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D593-3B88-4DC6-B61A-DC614F29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6E44-7FAB-4B39-B949-25F6C6C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0AA-4C1E-48BF-A0C7-865D2F70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A5D9-95AF-4B9D-B75F-812B796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409E-A03C-4F65-92DE-DD1AF1F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447C-6FD7-4DE9-B3CB-21BD64F5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3AFE-D941-4D49-8DB6-D55B4414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737E-4926-43AB-A374-D4968827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A776-151A-422A-81E3-646F9C08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31A0-88DD-4922-A2DE-48A6751F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6FDF-E6EE-49FD-8876-FB81BE40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7E29-73FF-41C3-B579-6763EACB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6DD8-6302-4FE4-AC60-9AE241B2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853-32CF-471E-9B6E-82205C25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35967-4930-41EA-81F0-B51B9CDC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3574-FDAF-462A-BDFA-7A67E809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90DA-27CA-4964-A3A2-CEE09603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A2EE0-682C-4020-8830-47986E4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F429-0E0B-4C89-AA5B-7464B850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D852-1FF9-4A42-B330-C0B61AA2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6446-45DD-470C-80D0-FE844A9C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E9C-51C0-4C9D-96B3-B37D174E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02D-AA53-4B60-AE06-AFF6C9A3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953-6016-4B37-AB19-7B9AE3F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8D8-1BEB-4A44-AF3A-B8CEE7E5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06C-56EB-460B-B27C-5ED8944D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2D4-1E38-4B8B-9C1B-20DC7B1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7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5D8C97-9E96-4AE9-B68F-F51B8E1E24D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7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DBF68A-DD63-4153-A4EC-A9B5A0E4C31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7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C6579E-D81B-4FC2-8AD5-8844C8F8294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Муниципальное  Дошкольное  Образовательное  Бюджетное  Учреждение  «Детский  сад  №8  общеразвивающего  вида  с  приоритетным  осуществлением  познавательно – речевого   развития  детей  города  Шимановска».</a:t>
            </a: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1" lang="ru-RU" sz="8800" spc="-1" strike="noStrike">
                <a:solidFill>
                  <a:srgbClr val="00b0f0"/>
                </a:solidFill>
                <a:latin typeface="Calibri"/>
              </a:rPr>
              <a:t>Зима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786200" y="4000680"/>
            <a:ext cx="4214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Щаврук  С.Г.,  воспитатель  1-ой  квалификационной  катег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786120" y="6143760"/>
            <a:ext cx="199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013 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4" descr="DSC08684.JPG"/>
          <p:cNvPicPr/>
          <p:nvPr/>
        </p:nvPicPr>
        <p:blipFill>
          <a:blip r:embed="rId1"/>
          <a:stretch/>
        </p:blipFill>
        <p:spPr>
          <a:xfrm rot="5400000">
            <a:off x="3607560" y="1035720"/>
            <a:ext cx="5429880" cy="4072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14240" y="428760"/>
            <a:ext cx="335736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летает  белой  стае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сверкает  на  лету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звездой  прохладной  тает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  ладони  и во  рту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на  солнышке – румяный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д  луной  он – голубой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за  ворот  и  в  карманы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алетает  нам  с  тобой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и  белый,  и  лохматы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пушистый  как  медведь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скидай  его  лопатой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зови  его,  ответь!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Е.Тараховска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пушистый,  серебристы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о  рукой  его  не  тронь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танет  капелькою  чисто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 поймаешь  на  ладонь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Снег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имние  явления     природ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4" descr="DSC08681.JPG"/>
          <p:cNvPicPr/>
          <p:nvPr/>
        </p:nvPicPr>
        <p:blipFill>
          <a:blip r:embed="rId1"/>
          <a:stretch/>
        </p:blipFill>
        <p:spPr>
          <a:xfrm rot="5400000">
            <a:off x="3385440" y="1329480"/>
            <a:ext cx="5492520" cy="411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ей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сё  вокруг  укутал  иней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 заячий  тулуп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вода  электролиний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ыши,  дым  из  труб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ушил  пеньки  лесные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 сосне – иголк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 набросил  ледяны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ужева  на  ёлке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.А. Шорыгин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86040" y="-428760"/>
            <a:ext cx="450036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имние  явления  в  природ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1360" y="1071720"/>
            <a:ext cx="2685600" cy="57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негопад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  идёт,  снег  идёт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  по  свету  бродит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от  куда  он  идёт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куда  уходит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опад,  снегопад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жное  паденье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  идёт  наугад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ловно  сновиденье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ы  земли,  сны  небес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идит,  засыпая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елый  сад,  белый  лес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ом  засыпа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8" descr="DSC08678.JPG"/>
          <p:cNvPicPr/>
          <p:nvPr/>
        </p:nvPicPr>
        <p:blipFill>
          <a:blip r:embed="rId1"/>
          <a:stretch/>
        </p:blipFill>
        <p:spPr>
          <a:xfrm rot="5400000">
            <a:off x="3432960" y="1281600"/>
            <a:ext cx="5111280" cy="3833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2960" y="2286000"/>
            <a:ext cx="8186400" cy="23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ольшая  поэзия  для  маленьких  детей. Зимние  стихи.» Издательство «Мозаика – синтез». 2009г.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. «Праздники  в  детском  саду» Михайлова  М.А.  1999 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. «1000  загадок, скороговорок, считалок  для  самых  умных  малышей»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ОО  «Издательство  «Сова»,  2007 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5143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етви  белой  краской  разукрашу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рошу  серебро  на  крышу  вашу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ёплые   весной  придут  ветр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 меня  прогонят  со  двор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(Зима)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115.JPG"/>
          <p:cNvPicPr/>
          <p:nvPr/>
        </p:nvPicPr>
        <p:blipFill>
          <a:blip r:embed="rId1"/>
          <a:stretch/>
        </p:blipFill>
        <p:spPr>
          <a:xfrm>
            <a:off x="1285920" y="571320"/>
            <a:ext cx="67885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407196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.С.  Пушки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4" descr="DSC08683.JPG"/>
          <p:cNvPicPr/>
          <p:nvPr/>
        </p:nvPicPr>
        <p:blipFill>
          <a:blip r:embed="rId1"/>
          <a:stretch/>
        </p:blipFill>
        <p:spPr>
          <a:xfrm rot="5400000">
            <a:off x="3528360" y="1115280"/>
            <a:ext cx="5492520" cy="411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7160" y="714240"/>
            <a:ext cx="2928600" cy="41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дёт  волшебница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им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шла,  рассыпалась;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локам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висла  на  суках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убов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Легла  волнистыми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врам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реди  полей,  вокруг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олмов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леснул  мороз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 рады  мы  проказам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атушки  зимы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4929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Лес  и  поле  белые, белые  луг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  осин  заснеженных  ветви  как  рог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о  льдами  крепкими  дремлют  воды  рек 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елыми  сугробами  лёг  на  крышах  сне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DSC08675.JPG"/>
          <p:cNvPicPr/>
          <p:nvPr/>
        </p:nvPicPr>
        <p:blipFill>
          <a:blip r:embed="rId1"/>
          <a:stretch/>
        </p:blipFill>
        <p:spPr>
          <a:xfrm>
            <a:off x="1500120" y="428760"/>
            <a:ext cx="60343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cover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5072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сюду  снег,  в  снегу  дома –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везла  его  зим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  нам  спешила  поскоре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везла  к  нам  снегирей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т  зари  и  до  зар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ят  зиму  снегир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А.Бродсккий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3" descr="Cabins at Mt. Assiniboine Lodge, British Columbia.jpg"/>
          <p:cNvPicPr/>
          <p:nvPr/>
        </p:nvPicPr>
        <p:blipFill>
          <a:blip r:embed="rId1"/>
          <a:stretch/>
        </p:blipFill>
        <p:spPr>
          <a:xfrm>
            <a:off x="1714320" y="214200"/>
            <a:ext cx="6000480" cy="4500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cover dir="l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357192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.Тютчев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4" descr="DSC08682.JPG"/>
          <p:cNvPicPr/>
          <p:nvPr/>
        </p:nvPicPr>
        <p:blipFill>
          <a:blip r:embed="rId1"/>
          <a:stretch/>
        </p:blipFill>
        <p:spPr>
          <a:xfrm rot="5400000">
            <a:off x="3540240" y="1245600"/>
            <a:ext cx="5396040" cy="4047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85880" y="1428840"/>
            <a:ext cx="30794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ародейкою  зимою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колдован,  лес  стоит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 под  снежной    бахромою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подвижною,  немою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удной  жизнью  он  блестит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Содержимое 4" descr="DSC08679.JPG"/>
          <p:cNvPicPr/>
          <p:nvPr/>
        </p:nvPicPr>
        <p:blipFill>
          <a:blip r:embed="rId1"/>
          <a:stretch/>
        </p:blipFill>
        <p:spPr>
          <a:xfrm rot="5400000">
            <a:off x="3575160" y="12823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85880" y="8571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елый  снег  пушисты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 воздухе  кружится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на  землю  тихо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адает,  ложитс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под  утро  снегом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ле  забелело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Точно  пеленою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сё  его  одело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Тёмный  лес,  что  шапко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инакрылся  чудно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заснул  под  нею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репко,  непробудно…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5000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олодно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м  стоит  в  мохнатой  шапк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Лес  укутался  в  снег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т  продрог  и  греет  лапки  у  электроутюг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DSC08677.JPG"/>
          <p:cNvPicPr/>
          <p:nvPr/>
        </p:nvPicPr>
        <p:blipFill>
          <a:blip r:embed="rId1"/>
          <a:stretch/>
        </p:blipFill>
        <p:spPr>
          <a:xfrm>
            <a:off x="1643040" y="500040"/>
            <a:ext cx="60343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diamond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4714920"/>
            <a:ext cx="821484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д  голубыми  небесами,  великолепными  коврами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Блестя  на  солнце  снег  лежит;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озрачный  лес  один  чернее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ель  сквозь  иней  зеленеет  и  речка  подо  льдом  блестит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А.С. Пушкин.</a:t>
            </a:r>
            <a:br>
              <a:rPr sz="16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DSC08676.JPG"/>
          <p:cNvPicPr/>
          <p:nvPr/>
        </p:nvPicPr>
        <p:blipFill>
          <a:blip r:embed="rId1"/>
          <a:stretch/>
        </p:blipFill>
        <p:spPr>
          <a:xfrm>
            <a:off x="1500120" y="285840"/>
            <a:ext cx="60343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  <Words>427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5:55:44Z</dcterms:created>
  <dc:creator>Admin</dc:creator>
  <dc:description/>
  <dc:language>en-US</dc:language>
  <cp:lastModifiedBy>asd</cp:lastModifiedBy>
  <dcterms:modified xsi:type="dcterms:W3CDTF">2013-04-18T05:11:13Z</dcterms:modified>
  <cp:revision>30</cp:revision>
  <dc:subject/>
  <dc:title>Муниципальное  Дошкольное  Образовательное  Бюджетное  Учреждение  «Детский  сад  №8  общеразвивающего  вида  с  приоритетным  осуществлением  познавательно - 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