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666-2ADC-4061-8ED0-00DC3F14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613-E0E4-4B28-9F08-3FF3A028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B72-5EBC-4B2F-A37E-855A0420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C2F-C313-43A6-9BF5-DE1BEFF0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AB4F-F914-4369-B3D9-64154969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BB86-DE35-44E3-85CA-320D5DF3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6DBE-4F55-483B-9D03-EC8AD52B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A624-79A5-4384-9B68-2D496E63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2B8E-368E-42CC-845B-1D0CE27E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521D-E240-4048-BDAE-417F8B0F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DB37-210A-46DD-A4EF-E0B019E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D47-09CA-43DC-B591-83F770D4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6C8F-2F0F-4556-9832-EE271975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F949-1592-40F2-897B-43BD3FCB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3F5D-706A-4B6A-B5DA-86AAB27C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CD15-F070-40AC-8586-FCFF1AF6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270A-DD42-4958-9FB7-3ABD69BC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EC96-F3D6-4D82-A3D0-9102055C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7454-392E-4AB2-9A1F-9D3DF6D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05DA-F50E-47C1-BC1F-D0873D27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F4FF-3079-4CD5-BDDD-8CB9635F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2BE3-1B73-47EF-A197-BCF1DBCB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A2B-C9A0-4A7C-942E-092ACC2C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5EC2-E4EB-4EA0-8085-297B4FFD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5EBA-3EA5-415C-B8C8-C17BDC2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41AE-0D12-441E-9946-32970441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692A-B2BF-483E-9E93-B3EC733E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EF17-EB9D-48F6-8256-E38028FE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74FA-6591-4C99-90A4-4D3C6614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AE159-5AA0-40FF-A25D-ECEBDCD1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1F5-43F5-4F10-A7A6-A2F430C1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C37-B671-4480-ADA0-A64D3DD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CAF-0EFD-4137-B8C7-6F03AFF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CD5-E605-4A13-B8E0-5CD7BE24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853-5116-4CE8-BA53-DEF1C24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21E-43A4-493D-9D41-20841C57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7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8E9C6A-EC44-49BF-89BF-24AE44FCFAB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7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9BFB22-0CBA-4332-B612-76DD3F6E20D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7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EF1238-C46E-4604-AD1A-C5E48339D03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Муниципальное  Дошкольное  Образовательное  Бюджетное  Учреждение  «Детский  сад  №8  общеразвивающего  вида  с  приоритетным  осуществлением  познавательно – речевого   развития  детей  города  Шимановска».</a:t>
            </a: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760"/>
              </a:spcBef>
              <a:buNone/>
              <a:tabLst>
                <a:tab algn="l" pos="0"/>
              </a:tabLst>
            </a:pPr>
            <a:r>
              <a:rPr b="1" lang="ru-RU" sz="8800" spc="-1" strike="noStrike">
                <a:solidFill>
                  <a:srgbClr val="00b0f0"/>
                </a:solidFill>
                <a:latin typeface="Calibri"/>
              </a:rPr>
              <a:t>Зима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786200" y="4000680"/>
            <a:ext cx="4214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Щаврук  С.Г.,  воспитатель  1-ой  квалификационной  катег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786120" y="6143760"/>
            <a:ext cx="199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2013 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Содержимое 4" descr="DSC08684.JPG"/>
          <p:cNvPicPr/>
          <p:nvPr/>
        </p:nvPicPr>
        <p:blipFill>
          <a:blip r:embed="rId1"/>
          <a:stretch/>
        </p:blipFill>
        <p:spPr>
          <a:xfrm rot="5400000">
            <a:off x="3607560" y="1035720"/>
            <a:ext cx="5429880" cy="4072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14240" y="428760"/>
            <a:ext cx="335736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летает  белой  стае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сверкает  на  лету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звездой  прохладной  тает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  ладони  и во  рту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на  солнышке – румяный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д  луной  он – голубой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за  ворот  и  в  карманы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Залетает  нам  с  тобой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и  белый,  и  лохматы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пушистый  как  медведь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скидай  его  лопатой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азови  его,  ответь!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Е.Тараховска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н  пушистый,  серебристы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Но  рукой  его  не  тронь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танет  капелькою  чисто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 поймаешь  на  ладонь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Снег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имние  явления     природ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4" descr="DSC08681.JPG"/>
          <p:cNvPicPr/>
          <p:nvPr/>
        </p:nvPicPr>
        <p:blipFill>
          <a:blip r:embed="rId1"/>
          <a:stretch/>
        </p:blipFill>
        <p:spPr>
          <a:xfrm rot="5400000">
            <a:off x="3385440" y="1329480"/>
            <a:ext cx="5492520" cy="411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57160" y="142884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ей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сё  вокруг  укутал  иней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 заячий  тулуп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вода  электролиний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ыши,  дым  из  труб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ушил  пеньки  лесные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  сосне – иголк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 набросил  ледяные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ружева  на  ёлке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.А. Шорыгин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86040" y="-428760"/>
            <a:ext cx="450036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имние  явления  в  природ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1360" y="1071720"/>
            <a:ext cx="2685600" cy="57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негопад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  идёт,  снег  идёт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  по  свету  бродит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от  куда  он  идёт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куда  уходит?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опад,  снегопад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жное  паденье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  идёт  наугад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ловно  сновиденье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ы  земли,  сны  небес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идит,  засыпая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елый  сад,  белый  лес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негом  засыпа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Содержимое 8" descr="DSC08678.JPG"/>
          <p:cNvPicPr/>
          <p:nvPr/>
        </p:nvPicPr>
        <p:blipFill>
          <a:blip r:embed="rId1"/>
          <a:stretch/>
        </p:blipFill>
        <p:spPr>
          <a:xfrm rot="5400000">
            <a:off x="3432960" y="1281600"/>
            <a:ext cx="5111280" cy="3833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2960" y="2286000"/>
            <a:ext cx="8186400" cy="23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«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ольшая  поэзия  для  маленьких  детей. Зимние  стихи.» Издательство «Мозаика – синтез». 2009г.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2. «Праздники  в  детском  саду» Михайлова  М.А.  1999 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3. «1000  загадок, скороговорок, считалок  для  самых  умных  малышей»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ОО  «Издательство  «Сова»,  2007 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3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5143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етви  белой  краской  разукрашу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рошу  серебро  на  крышу  вашу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ёплые   весной  придут  ветр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 меня  прогонят  со  двор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(Зима)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115.JPG"/>
          <p:cNvPicPr/>
          <p:nvPr/>
        </p:nvPicPr>
        <p:blipFill>
          <a:blip r:embed="rId1"/>
          <a:stretch/>
        </p:blipFill>
        <p:spPr>
          <a:xfrm>
            <a:off x="1285920" y="571320"/>
            <a:ext cx="67885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407196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.С.  Пушки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одержимое 4" descr="DSC08683.JPG"/>
          <p:cNvPicPr/>
          <p:nvPr/>
        </p:nvPicPr>
        <p:blipFill>
          <a:blip r:embed="rId1"/>
          <a:stretch/>
        </p:blipFill>
        <p:spPr>
          <a:xfrm rot="5400000">
            <a:off x="3528360" y="1115280"/>
            <a:ext cx="5492520" cy="411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7160" y="714240"/>
            <a:ext cx="2928600" cy="41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дёт  волшебница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им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шла,  рассыпалась;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локам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висла  на  суках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убов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Легла  волнистыми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врам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реди  полей,  вокруг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олмов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Блеснул  мороз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 рады  мы  проказам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атушки  зимы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4929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Лес  и  поле  белые, белые  луг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  осин  заснеженных  ветви  как  рог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о  льдами  крепкими  дремлют  воды  рек 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елыми  сугробами  лёг  на  крышах  снег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DSC08675.JPG"/>
          <p:cNvPicPr/>
          <p:nvPr/>
        </p:nvPicPr>
        <p:blipFill>
          <a:blip r:embed="rId1"/>
          <a:stretch/>
        </p:blipFill>
        <p:spPr>
          <a:xfrm>
            <a:off x="1500120" y="428760"/>
            <a:ext cx="60343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cover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5072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сюду  снег,  в  снегу  дома –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везла  его  зим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  нам  спешила  поскорей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ивезла  к  нам  снегирей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т  зари  и  до  зари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лавят  зиму  снегир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А.Бродсккий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3" descr="Cabins at Mt. Assiniboine Lodge, British Columbia.jpg"/>
          <p:cNvPicPr/>
          <p:nvPr/>
        </p:nvPicPr>
        <p:blipFill>
          <a:blip r:embed="rId1"/>
          <a:stretch/>
        </p:blipFill>
        <p:spPr>
          <a:xfrm>
            <a:off x="1714320" y="214200"/>
            <a:ext cx="6000480" cy="4500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cover dir="l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357192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.Тютчев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4" descr="DSC08682.JPG"/>
          <p:cNvPicPr/>
          <p:nvPr/>
        </p:nvPicPr>
        <p:blipFill>
          <a:blip r:embed="rId1"/>
          <a:stretch/>
        </p:blipFill>
        <p:spPr>
          <a:xfrm rot="5400000">
            <a:off x="3540240" y="1245600"/>
            <a:ext cx="5396040" cy="4047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85880" y="1428840"/>
            <a:ext cx="30794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ародейкою  зимою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колдован,  лес  стоит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 под  снежной    бахромою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подвижною,  немою,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удной  жизнью  он  блестит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Содержимое 4" descr="DSC08679.JPG"/>
          <p:cNvPicPr/>
          <p:nvPr/>
        </p:nvPicPr>
        <p:blipFill>
          <a:blip r:embed="rId1"/>
          <a:stretch/>
        </p:blipFill>
        <p:spPr>
          <a:xfrm rot="5400000">
            <a:off x="3575160" y="1282320"/>
            <a:ext cx="5111280" cy="38332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85880" y="8571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елый  снег  пушисты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 воздухе  кружится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на  землю  тихо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адает,  ложится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под  утро  снегом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ле  забелело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Точно  пеленою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сё  его  одело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Тёмный  лес,  что  шапко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инакрылся  чудной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заснул  под  нею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репко,  непробудно…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5000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олодно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м  стоит  в  мохнатой  шапке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Лес  укутался  в  снег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т  продрог  и  греет  лапки  у  электроутюг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DSC08677.JPG"/>
          <p:cNvPicPr/>
          <p:nvPr/>
        </p:nvPicPr>
        <p:blipFill>
          <a:blip r:embed="rId1"/>
          <a:stretch/>
        </p:blipFill>
        <p:spPr>
          <a:xfrm>
            <a:off x="1643040" y="500040"/>
            <a:ext cx="60343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diamond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4714920"/>
            <a:ext cx="8214840" cy="17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од  голубыми  небесами,  великолепными  коврами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Блестя  на  солнце  снег  лежит;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Прозрачный  лес  один  чернее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  ель  сквозь  иней  зеленеет  и  речка  подо  льдом  блестит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А.С. Пушкин.</a:t>
            </a:r>
            <a:br>
              <a:rPr sz="16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DSC08676.JPG"/>
          <p:cNvPicPr/>
          <p:nvPr/>
        </p:nvPicPr>
        <p:blipFill>
          <a:blip r:embed="rId1"/>
          <a:stretch/>
        </p:blipFill>
        <p:spPr>
          <a:xfrm>
            <a:off x="1500120" y="285840"/>
            <a:ext cx="6034320" cy="4525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med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  <Words>427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5:55:44Z</dcterms:created>
  <dc:creator>Admin</dc:creator>
  <dc:description/>
  <dc:language>en-US</dc:language>
  <cp:lastModifiedBy>asd</cp:lastModifiedBy>
  <dcterms:modified xsi:type="dcterms:W3CDTF">2013-04-18T05:11:13Z</dcterms:modified>
  <cp:revision>30</cp:revision>
  <dc:subject/>
  <dc:title>Муниципальное  Дошкольное  Образовательное  Бюджетное  Учреждение  «Детский  сад  №8  общеразвивающего  вида  с  приоритетным  осуществлением  познавательно - 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