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64EF-0B3B-46EA-AB8F-94FEBD954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1824-3948-4B3F-98A9-C4162423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73B9-B1BD-4C27-8ABD-436AF447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BF26-6394-40F5-8596-04251DAA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3632-6CE7-43DD-B00E-1A8ED2944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48F8-1809-4FD3-9EB1-F7CD719C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8DB4-41DD-4A34-99FA-0FD10F32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8B57-B97C-41B4-B2A1-6C63A430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54E3-4F7C-4572-B70B-38601436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496A-DF5C-4432-8770-2BB6EDFB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8874-33C0-43E1-A784-907C4DAC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95D8-3B0D-4F0B-85D7-8C0809DD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0691-47A2-4B1B-A824-37962372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7C6D-0E5D-4CB5-AB2B-9B080358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7522-FB2C-46D2-973A-AA7F52C0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9930-E404-4166-82CA-62C3F20E6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C640-796F-46FE-B849-F6F8A218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0103A-4E11-4887-A09B-74F0AB1F2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BC09E-3E3C-4486-A58F-C7702358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3CCD8-F05D-42BC-86D6-C71EC874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A5F86-C25E-43B1-9F63-716110BD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6AD3C-33EB-4E5F-87F2-CF746184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B37E-5B7C-4573-BDD4-F9A52FAA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661AC-9036-4CA4-8816-6D9482B7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90F36-FA25-4D41-ADCE-B6D61E8B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182D7-C8A1-4B3D-805A-02560E44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90F70-7F8B-4B45-BBEC-5D886ADB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A7CFF-CA48-4DD5-A875-D42A9545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9E953-73F5-4472-8935-3A55DF14F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377BD-D197-4B0D-A0AA-5938D0432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4906-3170-47C3-8CB2-3DC63A35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B1FA-CF2D-4DE0-AED9-E51C2791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B089-2411-43E1-9019-3F74BEC3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A2CF-42DF-4DEA-9B75-94D881A8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CD36-9962-46D2-ADDE-5DFEFA70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C0C9-9FBD-4078-B0FF-B65BDCD2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007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214ABF-5BF3-4338-B5D6-0EE4BC17BAD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007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883EFE-C405-459C-A268-F88CA1446B8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007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57200" y="1434960"/>
            <a:ext cx="30078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232D027-EB15-40F4-B246-0FF5D16C9F1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04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Муниципальное  Дошкольное  Образовательное  Бюджетное  Учреждение  «Детский  сад  №8  общеразвивающего  вида  с  приоритетным  осуществлением  познавательно – речевого   развития  детей  города  Шимановска».</a:t>
            </a:r>
            <a:endParaRPr b="0" lang="ru-RU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428840" y="185724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760"/>
              </a:spcBef>
              <a:buNone/>
              <a:tabLst>
                <a:tab algn="l" pos="0"/>
              </a:tabLst>
            </a:pPr>
            <a:r>
              <a:rPr b="1" lang="ru-RU" sz="8800" spc="-1" strike="noStrike">
                <a:solidFill>
                  <a:srgbClr val="00b0f0"/>
                </a:solidFill>
                <a:latin typeface="Calibri"/>
              </a:rPr>
              <a:t>Зима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4786200" y="4000680"/>
            <a:ext cx="42145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оста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Щаврук  С.Г.,  воспитатель  1-ой  квалификационной  категор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3786120" y="6143760"/>
            <a:ext cx="1999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2013 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Содержимое 4" descr="DSC08684.JPG"/>
          <p:cNvPicPr/>
          <p:nvPr/>
        </p:nvPicPr>
        <p:blipFill>
          <a:blip r:embed="rId1"/>
          <a:stretch/>
        </p:blipFill>
        <p:spPr>
          <a:xfrm rot="5400000">
            <a:off x="3607560" y="1035720"/>
            <a:ext cx="5429880" cy="40723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714240" y="428760"/>
            <a:ext cx="335736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Снег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н  летает  белой  стаей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И  сверкает  на  лету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н  звездой  прохладной  тает 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На  ладони  и во  рту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н  на  солнышке – румяный,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Под  луной  он – голубой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н  за  ворот  и  в  карманы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Залетает  нам  с  тобой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н  и  белый,  и  лохматый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И  пушистый  как  медведь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Раскидай  его  лопатой,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Назови  его,  ответь!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Е.Тараховская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н  пушистый,  серебристый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Но  рукой  его  не  тронь: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Станет  капелькою  чистой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Как  поймаешь  на  ладонь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(Снег)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blinds dir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21420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Зимние  явления     природы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Содержимое 4" descr="DSC08681.JPG"/>
          <p:cNvPicPr/>
          <p:nvPr/>
        </p:nvPicPr>
        <p:blipFill>
          <a:blip r:embed="rId1"/>
          <a:stretch/>
        </p:blipFill>
        <p:spPr>
          <a:xfrm rot="5400000">
            <a:off x="3385440" y="1329480"/>
            <a:ext cx="5492520" cy="41191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57160" y="1428840"/>
            <a:ext cx="30078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ней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сё  вокруг  укутал  иней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  заячий  тулуп: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овода  электролиний,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рыши,  дым  из  труб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пушил  пеньки  лесные,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а  сосне – иголки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  набросил  ледяные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ружева  на  ёлке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Т.А. Шорыгина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blinds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86040" y="-428760"/>
            <a:ext cx="450036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Зимние  явления  в  природе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71360" y="1071720"/>
            <a:ext cx="2685600" cy="57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негопад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Снег  идёт,  снег  идёт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Снег  по  свету  бродит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И  от  куда  он  идёт 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И  куда  уходит?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Снегопад,  снегопад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Снежное  паденье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Снег  идёт  наугад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Словно  сновиденье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Сны  земли,  сны  небес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Видит,  засыпая,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Белый  сад,  белый  лес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Снегом  засыпая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Содержимое 8" descr="DSC08678.JPG"/>
          <p:cNvPicPr/>
          <p:nvPr/>
        </p:nvPicPr>
        <p:blipFill>
          <a:blip r:embed="rId1"/>
          <a:stretch/>
        </p:blipFill>
        <p:spPr>
          <a:xfrm rot="5400000">
            <a:off x="3432960" y="1281600"/>
            <a:ext cx="5111280" cy="38332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 spd="med">
    <p:circl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0040" y="9288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Литература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42960" y="2286000"/>
            <a:ext cx="8186400" cy="235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03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 «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Большая  поэзия  для  маленьких  детей. Зимние  стихи.» Издательство «Мозаика – синтез». 2009г. 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03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03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2. «Праздники  в  детском  саду» Михайлова  М.А.  1999 г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03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03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3. «1000  загадок, скороговорок, считалок  для  самых  умных  малышей»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03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ООО  «Издательство  «Сова»,  2007 г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03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1320" y="5143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6000"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етви  белой  краской  разукрашу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Брошу  серебро  на  крышу  вашу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Тёплые   весной  придут  ветра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  меня  прогонят  со  двора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(Зима)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Содержимое 3" descr="115.JPG"/>
          <p:cNvPicPr/>
          <p:nvPr/>
        </p:nvPicPr>
        <p:blipFill>
          <a:blip r:embed="rId1"/>
          <a:stretch/>
        </p:blipFill>
        <p:spPr>
          <a:xfrm>
            <a:off x="1285920" y="571320"/>
            <a:ext cx="6788520" cy="45255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 spd="med">
    <p:wipe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85880" y="407196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А.С.  Пушкин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Содержимое 4" descr="DSC08683.JPG"/>
          <p:cNvPicPr/>
          <p:nvPr/>
        </p:nvPicPr>
        <p:blipFill>
          <a:blip r:embed="rId1"/>
          <a:stretch/>
        </p:blipFill>
        <p:spPr>
          <a:xfrm rot="5400000">
            <a:off x="3528360" y="1115280"/>
            <a:ext cx="5492520" cy="41191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57160" y="714240"/>
            <a:ext cx="2928600" cy="41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дёт  волшебница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зима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ишла,  рассыпалась; 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локами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висла  на  суках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дубов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Легла  волнистыми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врами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реди  полей,  вокруг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холмов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Блеснул  мороз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  рады  мы  проказам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Матушки  зимы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1320" y="49291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Лес  и  поле  белые, белые  луга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У  осин  заснеженных  ветви  как  рога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одо  льдами  крепкими  дремлют  воды  рек 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Белыми  сугробами  лёг  на  крышах  снег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Содержимое 3" descr="DSC08675.JPG"/>
          <p:cNvPicPr/>
          <p:nvPr/>
        </p:nvPicPr>
        <p:blipFill>
          <a:blip r:embed="rId1"/>
          <a:stretch/>
        </p:blipFill>
        <p:spPr>
          <a:xfrm>
            <a:off x="1500120" y="428760"/>
            <a:ext cx="6034320" cy="45255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 spd="med">
    <p:cover dir="l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760" y="50720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8000"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сюду  снег,  в  снегу  дома –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ивезла  его  зима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  нам  спешила  поскорей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ивезла  к  нам  снегирей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т  зари  и  до  зари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лавят  зиму  снегири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А.Бродсккий.</a:t>
            </a:r>
            <a:br>
              <a:rPr sz="1800"/>
            </a:b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Содержимое 3" descr="Cabins at Mt. Assiniboine Lodge, British Columbia.jpg"/>
          <p:cNvPicPr/>
          <p:nvPr/>
        </p:nvPicPr>
        <p:blipFill>
          <a:blip r:embed="rId1"/>
          <a:stretch/>
        </p:blipFill>
        <p:spPr>
          <a:xfrm>
            <a:off x="1714320" y="214200"/>
            <a:ext cx="6000480" cy="4500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 spd="med">
    <p:cover dir="l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14240" y="357192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Ф.Тютчев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Содержимое 4" descr="DSC08682.JPG"/>
          <p:cNvPicPr/>
          <p:nvPr/>
        </p:nvPicPr>
        <p:blipFill>
          <a:blip r:embed="rId1"/>
          <a:stretch/>
        </p:blipFill>
        <p:spPr>
          <a:xfrm rot="5400000">
            <a:off x="3540240" y="1245600"/>
            <a:ext cx="5396040" cy="40471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85880" y="1428840"/>
            <a:ext cx="30794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Чародейкою  зимою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Околдован,  лес  стоит,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И  под  снежной    бахромою,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Неподвижною,  немою,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Чудной  жизнью  он  блестит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r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Содержимое 4" descr="DSC08679.JPG"/>
          <p:cNvPicPr/>
          <p:nvPr/>
        </p:nvPicPr>
        <p:blipFill>
          <a:blip r:embed="rId1"/>
          <a:stretch/>
        </p:blipFill>
        <p:spPr>
          <a:xfrm rot="5400000">
            <a:off x="3575160" y="1282320"/>
            <a:ext cx="5111280" cy="38332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85880" y="857160"/>
            <a:ext cx="30078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Белый  снег  пушистый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В  воздухе  кружится 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И  на  землю  тихо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Падает,  ложится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И  под  утро  снегом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Поле  забелело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Точно  пеленою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Всё  его  одело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Тёмный  лес,  что  шапкой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Принакрылся  чудной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И  заснул  под  нею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Крепко,  непробудно…   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r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1320" y="50007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Холодно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Дом  стоит  в  мохнатой  шапке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Лес  укутался  в  снега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т  продрог  и  греет  лапки  у  электроутюга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Содержимое 3" descr="DSC08677.JPG"/>
          <p:cNvPicPr/>
          <p:nvPr/>
        </p:nvPicPr>
        <p:blipFill>
          <a:blip r:embed="rId1"/>
          <a:stretch/>
        </p:blipFill>
        <p:spPr>
          <a:xfrm>
            <a:off x="1643040" y="500040"/>
            <a:ext cx="6034320" cy="45255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 spd="med">
    <p:diamond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8760" y="4714920"/>
            <a:ext cx="8214840" cy="17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Под  голубыми  небесами,  великолепными  коврами 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Блестя  на  солнце  снег  лежит;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Прозрачный  лес  один  чернеет,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И  ель  сквозь  иней  зеленеет  и  речка  подо  льдом  блестит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А.С. Пушкин.</a:t>
            </a:r>
            <a:br>
              <a:rPr sz="1600"/>
            </a:b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Содержимое 3" descr="DSC08676.JPG"/>
          <p:cNvPicPr/>
          <p:nvPr/>
        </p:nvPicPr>
        <p:blipFill>
          <a:blip r:embed="rId1"/>
          <a:stretch/>
        </p:blipFill>
        <p:spPr>
          <a:xfrm>
            <a:off x="1500120" y="285840"/>
            <a:ext cx="6034320" cy="45255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 spd="med">
    <p:wheel spokes="8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  <Words>427</Words>
  <Paragraphs>9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2T05:55:44Z</dcterms:created>
  <dc:creator>Admin</dc:creator>
  <dc:description/>
  <dc:language>en-US</dc:language>
  <cp:lastModifiedBy>asd</cp:lastModifiedBy>
  <dcterms:modified xsi:type="dcterms:W3CDTF">2013-04-18T05:11:13Z</dcterms:modified>
  <cp:revision>30</cp:revision>
  <dc:subject/>
  <dc:title>Муниципальное  Дошкольное  Образовательное  Бюджетное  Учреждение  «Детский  сад  №8  общеразвивающего  вида  с  приоритетным  осуществлением  познавательно - р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3</vt:r8>
  </property>
</Properties>
</file>